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F6C-AEC0-40E7-B5E7-EB895170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B2C-4C0F-4DF9-A5EA-8ED362E1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331-A99C-46F4-A8AE-231362D1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D26-3B13-4EB6-AB2A-7C9484CE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82D0-42A6-4EB9-BC39-771D6E90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5955-B488-4DFE-8633-5FE55001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0C76-AFE1-45A7-BC3D-4CBB1CF3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2E60-2CDB-41A3-9147-B46A835A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0903-A25B-4128-A77D-3537A4E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1708-E360-44B1-B913-D2845E48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4A07-23CD-4591-A2AE-9DF91CB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ECD-CCD7-4C9D-BE64-D9620CAA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E6F9-C0BC-461C-9B74-A7048154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C7AD-FDC7-46D8-8620-C021A284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E79A-93A4-4277-97B8-F7F312E2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896E-62DD-48BB-8182-CEF6FAB8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E973-2A64-463E-B551-ECF2E5C8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1FC-718E-4538-A2CE-BE2D1544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C13-EDA8-4B6E-B344-D56CD3E7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2B5-505C-4048-BF93-C04BE214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FB4-A2C7-45EA-BA1C-E39AEECF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948-C3E6-471E-8EE0-CA510F76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108-EE9A-405E-BCA9-6419FB1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D59-9DDD-4653-BCF8-BC8B7623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F07D-15E2-4F96-8750-E43A1E189B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6660-D703-49AA-9453-0EE59AF766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89000"/>
            <a:ext cx="8077320" cy="63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omance  del rey moro que perdió Alham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(romance fronterizo c. 1482. Es la última guerra de Grana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aseábase el rey m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la ciudad de Gran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de la puerta de Elv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asta la de Vivarrambla.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tas le fueron ven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ómo Alhama era g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s cartas echó en el fu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al mensajero mata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chó mano a sus cab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las sus barbas mes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19280" y="0"/>
            <a:ext cx="4824360" cy="72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peóse de la 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y en un caballo cabal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r el Zacaín arr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ubido había a la Alhamb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ndó tocar sus tromp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us añafiles de pla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rque lo oyesen los mo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que andaban por el a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tro a cuatro, cinco a cin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juntado se ha gran com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lí habló un viejo alfaqu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barba bellida y c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¿Para qué nos llamas,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 qué fue nuestra llam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8000" y="620640"/>
            <a:ext cx="504036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Para que sepáis, amig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gran pérdida de Alh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¡Bien se te emplea, buen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uen rey, bien se te emplea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taste los Bencerraj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eran la flor de Gran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giste los Tornad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 Córdoba la nomb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eso mereces,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na pena muy dobl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te pierdas tú y el re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que se acabe Gr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22:44:43Z</dcterms:created>
  <dc:creator> </dc:creator>
  <dc:description/>
  <dc:language>en-US</dc:language>
  <cp:lastModifiedBy>-</cp:lastModifiedBy>
  <dcterms:modified xsi:type="dcterms:W3CDTF">2008-10-06T23:34:48Z</dcterms:modified>
  <cp:revision>8</cp:revision>
  <dc:subject/>
  <dc:title>Diapositiva 1</dc:title>
</cp:coreProperties>
</file>